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65A-5EAE-45D5-BFBC-33947DD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D25-3C28-4E2A-BB57-5D652AE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6C0-5C5A-4047-81A5-799F0D8F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93C-5CDA-47C7-B7CA-2B30F728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E11-F4BB-47DE-A2B7-2674F0D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CAC-9B4E-4B70-9F1A-36DAC730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15D-FFFD-4EFC-9009-B0161F3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8E2-F1A2-42AC-8904-700D532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253-30AD-435A-9F33-20851FE4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355-55F0-4664-B62F-9F39315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193-663B-44F1-B952-AF116E1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5F1-7567-49B0-9E6B-9118F14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tandard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3240" y="0"/>
            <a:ext cx="91375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152280" y="6550200"/>
            <a:ext cx="29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Name des Vortragenden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6019920" y="6550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6FB5CA6B-40B2-49CE-A4A8-7C0A2115794C}" type="slidenum"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pic>
        <p:nvPicPr>
          <p:cNvPr id="5" name="Picture 17" descr="madsg_final"/>
          <p:cNvPicPr/>
          <p:nvPr/>
        </p:nvPicPr>
        <p:blipFill>
          <a:blip r:embed="rId3"/>
          <a:stretch/>
        </p:blipFill>
        <p:spPr>
          <a:xfrm>
            <a:off x="6222960" y="539640"/>
            <a:ext cx="145404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3071880" y="657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Datum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date/time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footer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7AB1-DAAC-4D55-A198-5DD367D8671C}" type="slidenum"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number&gt;</a:t>
            </a:fld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art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3:10:27Z</dcterms:created>
  <dc:creator/>
  <dc:description/>
  <dc:language>en-US</dc:language>
  <cp:lastModifiedBy>duerrm</cp:lastModifiedBy>
  <dcterms:modified xsi:type="dcterms:W3CDTF">2012-07-10T08:42:31Z</dcterms:modified>
  <cp:revision>381</cp:revision>
  <dc:subject/>
  <dc:title>Mobile Media Mobile Platforms, Technologies and Services</dc:title>
</cp:coreProperties>
</file>